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9336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58840" y="693720"/>
            <a:ext cx="4616640" cy="346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23400" y="4386240"/>
            <a:ext cx="508644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0"/>
          <p:cNvSpPr/>
          <p:nvPr/>
        </p:nvSpPr>
        <p:spPr>
          <a:xfrm>
            <a:off x="4070520" y="8672400"/>
            <a:ext cx="2133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89000"/>
              </a:lnSpc>
              <a:spcBef>
                <a:spcPts val="451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2010 Carnegie Mellon Universit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400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1"/>
          <p:cNvSpPr/>
          <p:nvPr/>
        </p:nvSpPr>
        <p:spPr>
          <a:xfrm>
            <a:off x="6220800" y="8813880"/>
            <a:ext cx="788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EB9F8078-1A80-4B65-983A-4F39F8E17DA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2"/>
          <p:cNvSpPr/>
          <p:nvPr/>
        </p:nvSpPr>
        <p:spPr>
          <a:xfrm flipH="1">
            <a:off x="228600" y="8699400"/>
            <a:ext cx="6477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3" descr="SEI_CMU_1Line_Blk"/>
          <p:cNvPicPr/>
          <p:nvPr/>
        </p:nvPicPr>
        <p:blipFill>
          <a:blip r:embed="rId2"/>
          <a:stretch/>
        </p:blipFill>
        <p:spPr>
          <a:xfrm>
            <a:off x="260280" y="8794800"/>
            <a:ext cx="3727440" cy="22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3"/>
          <p:cNvSpPr>
            <a:spLocks noGrp="1"/>
          </p:cNvSpPr>
          <p:nvPr>
            <p:ph type="hdr"/>
          </p:nvPr>
        </p:nvSpPr>
        <p:spPr>
          <a:xfrm>
            <a:off x="573120" y="297000"/>
            <a:ext cx="270360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dt" idx="1"/>
          </p:nvPr>
        </p:nvSpPr>
        <p:spPr>
          <a:xfrm>
            <a:off x="3733560" y="297000"/>
            <a:ext cx="270324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4"/>
          <p:cNvSpPr/>
          <p:nvPr/>
        </p:nvSpPr>
        <p:spPr>
          <a:xfrm>
            <a:off x="573120" y="297000"/>
            <a:ext cx="27036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I Presentation (Basic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uthor, D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5"/>
          <p:cNvSpPr/>
          <p:nvPr/>
        </p:nvSpPr>
        <p:spPr>
          <a:xfrm>
            <a:off x="3733920" y="297000"/>
            <a:ext cx="27032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4720A40-7B10-4542-B1BD-A3F711222B9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588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23400" y="4386240"/>
            <a:ext cx="508644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itle S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tle and Subtitle text blocks should not be moved from their position if at all possib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88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23400" y="4386240"/>
            <a:ext cx="508644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Header Placeholder 3"/>
          <p:cNvSpPr/>
          <p:nvPr/>
        </p:nvSpPr>
        <p:spPr>
          <a:xfrm>
            <a:off x="573120" y="297000"/>
            <a:ext cx="27036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I Presentation (Basic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uthor, D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Date Placeholder 4"/>
          <p:cNvSpPr/>
          <p:nvPr/>
        </p:nvSpPr>
        <p:spPr>
          <a:xfrm>
            <a:off x="3733920" y="297000"/>
            <a:ext cx="27032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7D4B972-6D61-4123-B527-787A780DD4C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E90FC60-54D3-4845-96B1-825CF7E8448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049400" y="4947840"/>
            <a:ext cx="47880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8"/>
          <p:cNvSpPr/>
          <p:nvPr/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8 Carnegie Mellon Universit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2"/>
          <p:cNvSpPr/>
          <p:nvPr/>
        </p:nvSpPr>
        <p:spPr>
          <a:xfrm>
            <a:off x="0" y="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5620695-88BF-4DCB-A108-2B734339E01D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70000" y="698400"/>
            <a:ext cx="4595760" cy="34480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26640" y="4946400"/>
            <a:ext cx="5079960" cy="35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8"/>
          <p:cNvSpPr/>
          <p:nvPr/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8 Carnegie Mellon Universit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2"/>
          <p:cNvSpPr/>
          <p:nvPr/>
        </p:nvSpPr>
        <p:spPr>
          <a:xfrm>
            <a:off x="0" y="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3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BD46A75-F335-4F4C-B703-5E94273C737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70000" y="698400"/>
            <a:ext cx="4595760" cy="34480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26640" y="4946400"/>
            <a:ext cx="5079960" cy="35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B0D3A50-632C-4CF2-830E-B12204C872A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588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23400" y="4386240"/>
            <a:ext cx="508644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Header Placeholder 3"/>
          <p:cNvSpPr/>
          <p:nvPr/>
        </p:nvSpPr>
        <p:spPr>
          <a:xfrm>
            <a:off x="573120" y="297000"/>
            <a:ext cx="27036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I Presentation (Basic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uthor, D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Date Placeholder 4"/>
          <p:cNvSpPr/>
          <p:nvPr/>
        </p:nvSpPr>
        <p:spPr>
          <a:xfrm>
            <a:off x="3733920" y="297000"/>
            <a:ext cx="27032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1FBBD0F-6704-4212-BB3B-332C5A50EEEB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588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23400" y="4386240"/>
            <a:ext cx="508644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Header Placeholder 3"/>
          <p:cNvSpPr/>
          <p:nvPr/>
        </p:nvSpPr>
        <p:spPr>
          <a:xfrm>
            <a:off x="573120" y="297000"/>
            <a:ext cx="27036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I Presentation (Basic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uthor, D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Date Placeholder 4"/>
          <p:cNvSpPr/>
          <p:nvPr/>
        </p:nvSpPr>
        <p:spPr>
          <a:xfrm>
            <a:off x="3733920" y="297000"/>
            <a:ext cx="27032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1AFBAAD-15D5-4CC4-9B0E-F5AA7F01B1F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588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23400" y="4386240"/>
            <a:ext cx="508644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Header Placeholder 3"/>
          <p:cNvSpPr/>
          <p:nvPr/>
        </p:nvSpPr>
        <p:spPr>
          <a:xfrm>
            <a:off x="573120" y="297000"/>
            <a:ext cx="27036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I Presentation (Basic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uthor, D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Date Placeholder 4"/>
          <p:cNvSpPr/>
          <p:nvPr/>
        </p:nvSpPr>
        <p:spPr>
          <a:xfrm>
            <a:off x="3733920" y="297000"/>
            <a:ext cx="27032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C7BB53A-D471-43E0-BCE2-2EA7799AF48C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6F258B0-0B96-47EB-B2CB-2752A054EB9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1049400" y="4384800"/>
            <a:ext cx="4788000" cy="4154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7160" bIns="471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eeting report instructions (on page 5 of the “Meeting 1” tab) describe how to prepare the meeting notice/agenda and complete the decisions, actions, and key information sections of the meeting repor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DD34B0C-AF56-49EC-BC1A-B204D8605F6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04755F4-9D54-43A8-84A3-210C572878F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049400" y="4947840"/>
            <a:ext cx="47880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D0D5AD7-5F84-42EE-B99F-C7BE600583C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70020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1049400" y="4384800"/>
            <a:ext cx="4788000" cy="41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009E4CB-6D7C-4CD3-9272-B8EE4EF10F8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70020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1049400" y="4384800"/>
            <a:ext cx="4788000" cy="41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882DD30-1111-43CF-99DE-B1B3A70B6E6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4B17F1A-81FB-4304-9520-3D47D78F00E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BDF8199-09DE-4477-B5E6-9F6C1C7E0D3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1049400" y="4947840"/>
            <a:ext cx="47880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78F50A0-B0A8-40C4-B2D1-1554943A6B3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B71A13E-AF12-482A-9927-71BC1D7428B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E9FC3C5-D0B0-4BBE-AF13-CC55B3867C7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9BB82CA-6724-454E-9FC8-909E3630630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5"/>
          <p:cNvSpPr/>
          <p:nvPr/>
        </p:nvSpPr>
        <p:spPr>
          <a:xfrm>
            <a:off x="3925800" y="8767800"/>
            <a:ext cx="3008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B698A01-73F3-4ACE-807C-1CEEC6A46A3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049400" y="4384800"/>
            <a:ext cx="4788000" cy="4154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7160" bIns="471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slide and the following 3 slides are primarily for first time teams. When launching with a team that has used TSP before, these slides can be skipp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E07BA3D-A1EF-491E-B796-6814FEC75D9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049400" y="4384800"/>
            <a:ext cx="4788000" cy="4154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7160" bIns="471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: the meeting process is described on page 4 and the meeting roles are described on page 3 of the meeting 1 section of the Launch notebo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fter going through this slide, ask for volunteers to be the timekeeper and recorder for this meet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B37C885-0F2E-4665-81FC-9704DA6DAAA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29AC388-3F1F-4869-A4DC-3F2387D5168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952640" y="604800"/>
            <a:ext cx="2811600" cy="21081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80232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168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400" y="12949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2949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8023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400" y="38023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38023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3520" y="421920"/>
            <a:ext cx="8153280" cy="178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52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1168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0232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3520" y="380232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352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1168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90400" y="12949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6920" y="12949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3520" y="38023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90400" y="38023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6920" y="38023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421920"/>
            <a:ext cx="8153280" cy="178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168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80232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Aft>
                <a:spcPts val="624"/>
              </a:spcAft>
              <a:buClr>
                <a:srgbClr val="3c4f82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Aft>
                <a:spcPts val="624"/>
              </a:spcAft>
              <a:buClr>
                <a:srgbClr val="3c4f82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Aft>
                <a:spcPts val="624"/>
              </a:spcAft>
              <a:buClr>
                <a:srgbClr val="72727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Aft>
                <a:spcPts val="624"/>
              </a:spcAft>
              <a:buClr>
                <a:srgbClr val="727272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6"/>
          <p:cNvSpPr/>
          <p:nvPr/>
        </p:nvSpPr>
        <p:spPr>
          <a:xfrm>
            <a:off x="8153280" y="6405480"/>
            <a:ext cx="83844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72DB-E2F4-49D8-8E73-81C88709E4EC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br>
              <a:rPr sz="800"/>
            </a:b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7" descr="SEI_CMU_1Line_Blk"/>
          <p:cNvPicPr/>
          <p:nvPr/>
        </p:nvPicPr>
        <p:blipFill>
          <a:blip r:embed="rId2"/>
          <a:stretch/>
        </p:blipFill>
        <p:spPr>
          <a:xfrm>
            <a:off x="233280" y="6326280"/>
            <a:ext cx="5651640" cy="336600"/>
          </a:xfrm>
          <a:prstGeom prst="rect">
            <a:avLst/>
          </a:prstGeom>
          <a:ln w="0">
            <a:noFill/>
          </a:ln>
        </p:spPr>
      </p:pic>
      <p:sp>
        <p:nvSpPr>
          <p:cNvPr id="4" name="Line 78"/>
          <p:cNvSpPr/>
          <p:nvPr/>
        </p:nvSpPr>
        <p:spPr>
          <a:xfrm>
            <a:off x="0" y="6175440"/>
            <a:ext cx="914400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5360" bIns="144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9"/>
          <p:cNvSpPr/>
          <p:nvPr/>
        </p:nvSpPr>
        <p:spPr>
          <a:xfrm>
            <a:off x="6254640" y="6318720"/>
            <a:ext cx="23558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ptember 201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2010 Carnegie Mellon University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54"/>
          <p:cNvSpPr/>
          <p:nvPr/>
        </p:nvSpPr>
        <p:spPr>
          <a:xfrm>
            <a:off x="7478640" y="6410160"/>
            <a:ext cx="1665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2010 Carnegie Mellon University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5" descr="SEI_CMU_1Line_Blk"/>
          <p:cNvPicPr/>
          <p:nvPr/>
        </p:nvPicPr>
        <p:blipFill>
          <a:blip r:embed="rId2"/>
          <a:stretch/>
        </p:blipFill>
        <p:spPr>
          <a:xfrm>
            <a:off x="233280" y="6326280"/>
            <a:ext cx="5651640" cy="336600"/>
          </a:xfrm>
          <a:prstGeom prst="rect">
            <a:avLst/>
          </a:prstGeom>
          <a:ln w="0">
            <a:noFill/>
          </a:ln>
        </p:spPr>
      </p:pic>
      <p:sp>
        <p:nvSpPr>
          <p:cNvPr id="44" name="Line 56"/>
          <p:cNvSpPr/>
          <p:nvPr/>
        </p:nvSpPr>
        <p:spPr>
          <a:xfrm>
            <a:off x="0" y="6175440"/>
            <a:ext cx="914400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5360" bIns="144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57"/>
          <p:cNvGrpSpPr/>
          <p:nvPr/>
        </p:nvGrpSpPr>
        <p:grpSpPr>
          <a:xfrm>
            <a:off x="20520" y="23760"/>
            <a:ext cx="4076640" cy="6124680"/>
            <a:chOff x="20520" y="23760"/>
            <a:chExt cx="4076640" cy="6124680"/>
          </a:xfrm>
        </p:grpSpPr>
        <p:sp>
          <p:nvSpPr>
            <p:cNvPr id="46" name="Freeform 58"/>
            <p:cNvSpPr/>
            <p:nvPr/>
          </p:nvSpPr>
          <p:spPr>
            <a:xfrm>
              <a:off x="20520" y="3476520"/>
              <a:ext cx="1500840" cy="155520"/>
            </a:xfrm>
            <a:custGeom>
              <a:avLst/>
              <a:gdLst/>
              <a:ahLst/>
              <a:rect l="l" t="t" r="r" b="b"/>
              <a:pathLst>
                <a:path w="1004" h="98">
                  <a:moveTo>
                    <a:pt x="1004" y="0"/>
                  </a:moveTo>
                  <a:lnTo>
                    <a:pt x="0" y="0"/>
                  </a:lnTo>
                  <a:lnTo>
                    <a:pt x="0" y="98"/>
                  </a:lnTo>
                  <a:lnTo>
                    <a:pt x="906" y="98"/>
                  </a:lnTo>
                  <a:lnTo>
                    <a:pt x="1004" y="0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9"/>
            <p:cNvSpPr/>
            <p:nvPr/>
          </p:nvSpPr>
          <p:spPr>
            <a:xfrm>
              <a:off x="20520" y="1612800"/>
              <a:ext cx="611280" cy="155520"/>
            </a:xfrm>
            <a:custGeom>
              <a:avLst/>
              <a:gdLst/>
              <a:ahLst/>
              <a:rect l="l" t="t" r="r" b="b"/>
              <a:pathLst>
                <a:path w="409" h="98">
                  <a:moveTo>
                    <a:pt x="311" y="0"/>
                  </a:moveTo>
                  <a:lnTo>
                    <a:pt x="0" y="0"/>
                  </a:lnTo>
                  <a:lnTo>
                    <a:pt x="0" y="98"/>
                  </a:lnTo>
                  <a:lnTo>
                    <a:pt x="409" y="98"/>
                  </a:lnTo>
                  <a:lnTo>
                    <a:pt x="311" y="0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60"/>
            <p:cNvSpPr/>
            <p:nvPr/>
          </p:nvSpPr>
          <p:spPr>
            <a:xfrm>
              <a:off x="20520" y="4427640"/>
              <a:ext cx="623160" cy="169920"/>
            </a:xfrm>
            <a:custGeom>
              <a:avLst/>
              <a:gdLst/>
              <a:ahLst/>
              <a:rect l="l" t="t" r="r" b="b"/>
              <a:pathLst>
                <a:path w="418" h="107">
                  <a:moveTo>
                    <a:pt x="418" y="0"/>
                  </a:moveTo>
                  <a:lnTo>
                    <a:pt x="0" y="0"/>
                  </a:lnTo>
                  <a:lnTo>
                    <a:pt x="0" y="107"/>
                  </a:lnTo>
                  <a:lnTo>
                    <a:pt x="311" y="107"/>
                  </a:lnTo>
                  <a:lnTo>
                    <a:pt x="418" y="0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61"/>
            <p:cNvSpPr/>
            <p:nvPr/>
          </p:nvSpPr>
          <p:spPr>
            <a:xfrm>
              <a:off x="20520" y="2538360"/>
              <a:ext cx="1500840" cy="155520"/>
            </a:xfrm>
            <a:custGeom>
              <a:avLst/>
              <a:gdLst/>
              <a:ahLst/>
              <a:rect l="l" t="t" r="r" b="b"/>
              <a:pathLst>
                <a:path w="1004" h="98">
                  <a:moveTo>
                    <a:pt x="906" y="0"/>
                  </a:moveTo>
                  <a:lnTo>
                    <a:pt x="0" y="0"/>
                  </a:lnTo>
                  <a:lnTo>
                    <a:pt x="0" y="98"/>
                  </a:lnTo>
                  <a:lnTo>
                    <a:pt x="1004" y="98"/>
                  </a:lnTo>
                  <a:lnTo>
                    <a:pt x="906" y="0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62"/>
            <p:cNvSpPr/>
            <p:nvPr/>
          </p:nvSpPr>
          <p:spPr>
            <a:xfrm>
              <a:off x="20520" y="1940040"/>
              <a:ext cx="3386520" cy="453960"/>
            </a:xfrm>
            <a:custGeom>
              <a:avLst/>
              <a:gdLst/>
              <a:ahLst/>
              <a:rect l="l" t="t" r="r" b="b"/>
              <a:pathLst>
                <a:path w="2266" h="285">
                  <a:moveTo>
                    <a:pt x="0" y="285"/>
                  </a:moveTo>
                  <a:lnTo>
                    <a:pt x="2266" y="285"/>
                  </a:lnTo>
                  <a:lnTo>
                    <a:pt x="1982" y="0"/>
                  </a:lnTo>
                  <a:lnTo>
                    <a:pt x="0" y="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63"/>
            <p:cNvSpPr/>
            <p:nvPr/>
          </p:nvSpPr>
          <p:spPr>
            <a:xfrm>
              <a:off x="20520" y="3801960"/>
              <a:ext cx="3399840" cy="453960"/>
            </a:xfrm>
            <a:custGeom>
              <a:avLst/>
              <a:gdLst/>
              <a:ahLst/>
              <a:rect l="l" t="t" r="r" b="b"/>
              <a:pathLst>
                <a:path w="2275" h="285">
                  <a:moveTo>
                    <a:pt x="0" y="285"/>
                  </a:moveTo>
                  <a:lnTo>
                    <a:pt x="1991" y="285"/>
                  </a:lnTo>
                  <a:lnTo>
                    <a:pt x="2275" y="0"/>
                  </a:lnTo>
                  <a:lnTo>
                    <a:pt x="0" y="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64"/>
            <p:cNvSpPr/>
            <p:nvPr/>
          </p:nvSpPr>
          <p:spPr>
            <a:xfrm>
              <a:off x="20520" y="2865600"/>
              <a:ext cx="4076640" cy="453960"/>
            </a:xfrm>
            <a:custGeom>
              <a:avLst/>
              <a:gdLst/>
              <a:ahLst/>
              <a:rect l="l" t="t" r="r" b="b"/>
              <a:pathLst>
                <a:path w="2728" h="285">
                  <a:moveTo>
                    <a:pt x="2586" y="0"/>
                  </a:moveTo>
                  <a:lnTo>
                    <a:pt x="0" y="0"/>
                  </a:lnTo>
                  <a:lnTo>
                    <a:pt x="0" y="285"/>
                  </a:lnTo>
                  <a:lnTo>
                    <a:pt x="2586" y="285"/>
                  </a:lnTo>
                  <a:lnTo>
                    <a:pt x="2728" y="142"/>
                  </a:lnTo>
                  <a:lnTo>
                    <a:pt x="2586" y="0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5"/>
            <p:cNvSpPr/>
            <p:nvPr/>
          </p:nvSpPr>
          <p:spPr>
            <a:xfrm>
              <a:off x="20520" y="4753080"/>
              <a:ext cx="2496960" cy="453960"/>
            </a:xfrm>
            <a:custGeom>
              <a:avLst/>
              <a:gdLst/>
              <a:ahLst/>
              <a:rect l="l" t="t" r="r" b="b"/>
              <a:pathLst>
                <a:path w="1671" h="285">
                  <a:moveTo>
                    <a:pt x="0" y="285"/>
                  </a:moveTo>
                  <a:lnTo>
                    <a:pt x="1386" y="285"/>
                  </a:lnTo>
                  <a:lnTo>
                    <a:pt x="1671" y="0"/>
                  </a:lnTo>
                  <a:lnTo>
                    <a:pt x="0" y="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6"/>
            <p:cNvSpPr/>
            <p:nvPr/>
          </p:nvSpPr>
          <p:spPr>
            <a:xfrm>
              <a:off x="20520" y="5695920"/>
              <a:ext cx="1592640" cy="452520"/>
            </a:xfrm>
            <a:custGeom>
              <a:avLst/>
              <a:gdLst/>
              <a:ahLst/>
              <a:rect l="l" t="t" r="r" b="b"/>
              <a:pathLst>
                <a:path w="1066" h="284">
                  <a:moveTo>
                    <a:pt x="0" y="284"/>
                  </a:moveTo>
                  <a:lnTo>
                    <a:pt x="782" y="284"/>
                  </a:lnTo>
                  <a:lnTo>
                    <a:pt x="1066" y="0"/>
                  </a:lnTo>
                  <a:lnTo>
                    <a:pt x="0" y="0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7"/>
            <p:cNvSpPr/>
            <p:nvPr/>
          </p:nvSpPr>
          <p:spPr>
            <a:xfrm>
              <a:off x="20520" y="23760"/>
              <a:ext cx="1619640" cy="453960"/>
            </a:xfrm>
            <a:custGeom>
              <a:avLst/>
              <a:gdLst/>
              <a:ahLst/>
              <a:rect l="l" t="t" r="r" b="b"/>
              <a:pathLst>
                <a:path w="1084" h="285">
                  <a:moveTo>
                    <a:pt x="0" y="285"/>
                  </a:moveTo>
                  <a:lnTo>
                    <a:pt x="1084" y="285"/>
                  </a:lnTo>
                  <a:lnTo>
                    <a:pt x="800" y="0"/>
                  </a:lnTo>
                  <a:lnTo>
                    <a:pt x="0" y="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68"/>
            <p:cNvSpPr/>
            <p:nvPr/>
          </p:nvSpPr>
          <p:spPr>
            <a:xfrm>
              <a:off x="20520" y="974880"/>
              <a:ext cx="2510640" cy="453960"/>
            </a:xfrm>
            <a:custGeom>
              <a:avLst/>
              <a:gdLst/>
              <a:ahLst/>
              <a:rect l="l" t="t" r="r" b="b"/>
              <a:pathLst>
                <a:path w="1680" h="285">
                  <a:moveTo>
                    <a:pt x="0" y="285"/>
                  </a:moveTo>
                  <a:lnTo>
                    <a:pt x="1680" y="285"/>
                  </a:lnTo>
                  <a:lnTo>
                    <a:pt x="1395" y="0"/>
                  </a:lnTo>
                  <a:lnTo>
                    <a:pt x="0" y="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Aft>
                <a:spcPts val="624"/>
              </a:spcAft>
              <a:buClr>
                <a:srgbClr val="3c4f82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Aft>
                <a:spcPts val="624"/>
              </a:spcAft>
              <a:buClr>
                <a:srgbClr val="3c4f82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Aft>
                <a:spcPts val="624"/>
              </a:spcAft>
              <a:buClr>
                <a:srgbClr val="72727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Aft>
                <a:spcPts val="624"/>
              </a:spcAft>
              <a:buClr>
                <a:srgbClr val="727272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s://creativecommons.org/licenses/by/4.0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67080" y="2293920"/>
            <a:ext cx="426744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unching a TSP Proj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267080" y="3894120"/>
            <a:ext cx="4267440" cy="17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ware Engineering Instit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ttsburgh, PA  152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ember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aunch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1025640" y="1389240"/>
            <a:ext cx="144756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1.  Establish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roduct an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usiness go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1025640" y="2685960"/>
            <a:ext cx="1447560" cy="989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2.  Assign ro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nd defin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eam go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778120" y="1389240"/>
            <a:ext cx="144792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il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verall an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ar-term pla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2778120" y="2685960"/>
            <a:ext cx="1447920" cy="989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5.  Develo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qualit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la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2778120" y="3979800"/>
            <a:ext cx="1447920" cy="990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6.  Build individua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nd consolidat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la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0"/>
          <p:cNvSpPr/>
          <p:nvPr/>
        </p:nvSpPr>
        <p:spPr>
          <a:xfrm>
            <a:off x="1712880" y="2379600"/>
            <a:ext cx="0" cy="30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1"/>
          <p:cNvSpPr/>
          <p:nvPr/>
        </p:nvSpPr>
        <p:spPr>
          <a:xfrm>
            <a:off x="3540240" y="2379600"/>
            <a:ext cx="0" cy="30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2"/>
          <p:cNvSpPr/>
          <p:nvPr/>
        </p:nvSpPr>
        <p:spPr>
          <a:xfrm>
            <a:off x="3540240" y="367524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3"/>
          <p:cNvSpPr/>
          <p:nvPr/>
        </p:nvSpPr>
        <p:spPr>
          <a:xfrm flipV="1">
            <a:off x="2627280" y="19224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4"/>
          <p:cNvSpPr/>
          <p:nvPr/>
        </p:nvSpPr>
        <p:spPr>
          <a:xfrm>
            <a:off x="2627280" y="1922400"/>
            <a:ext cx="150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6"/>
          <p:cNvSpPr/>
          <p:nvPr/>
        </p:nvSpPr>
        <p:spPr>
          <a:xfrm>
            <a:off x="4606920" y="1389240"/>
            <a:ext cx="144792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7.  Conduc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i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ssess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7"/>
          <p:cNvSpPr/>
          <p:nvPr/>
        </p:nvSpPr>
        <p:spPr>
          <a:xfrm>
            <a:off x="4606920" y="2685960"/>
            <a:ext cx="1447920" cy="989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8.  Prepa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a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riefing 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aunch re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8"/>
          <p:cNvSpPr/>
          <p:nvPr/>
        </p:nvSpPr>
        <p:spPr>
          <a:xfrm>
            <a:off x="6512040" y="2685960"/>
            <a:ext cx="1447560" cy="989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aunc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ostmorte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9"/>
          <p:cNvSpPr/>
          <p:nvPr/>
        </p:nvSpPr>
        <p:spPr>
          <a:xfrm>
            <a:off x="5369040" y="2379600"/>
            <a:ext cx="0" cy="30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0"/>
          <p:cNvSpPr/>
          <p:nvPr/>
        </p:nvSpPr>
        <p:spPr>
          <a:xfrm>
            <a:off x="7197840" y="2379600"/>
            <a:ext cx="0" cy="30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1"/>
          <p:cNvSpPr/>
          <p:nvPr/>
        </p:nvSpPr>
        <p:spPr>
          <a:xfrm flipV="1">
            <a:off x="4454640" y="19224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2"/>
          <p:cNvSpPr/>
          <p:nvPr/>
        </p:nvSpPr>
        <p:spPr>
          <a:xfrm>
            <a:off x="4454640" y="1922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3"/>
          <p:cNvSpPr/>
          <p:nvPr/>
        </p:nvSpPr>
        <p:spPr>
          <a:xfrm flipH="1">
            <a:off x="3540240" y="51991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4"/>
          <p:cNvSpPr/>
          <p:nvPr/>
        </p:nvSpPr>
        <p:spPr>
          <a:xfrm flipV="1">
            <a:off x="3540240" y="4970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6"/>
          <p:cNvSpPr/>
          <p:nvPr/>
        </p:nvSpPr>
        <p:spPr>
          <a:xfrm>
            <a:off x="6512040" y="1389240"/>
            <a:ext cx="144756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9.  Hol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a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vi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7"/>
          <p:cNvSpPr/>
          <p:nvPr/>
        </p:nvSpPr>
        <p:spPr>
          <a:xfrm flipV="1">
            <a:off x="6359400" y="1922040"/>
            <a:ext cx="0" cy="19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8"/>
          <p:cNvSpPr/>
          <p:nvPr/>
        </p:nvSpPr>
        <p:spPr>
          <a:xfrm>
            <a:off x="6359400" y="19224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9"/>
          <p:cNvSpPr/>
          <p:nvPr/>
        </p:nvSpPr>
        <p:spPr>
          <a:xfrm flipH="1">
            <a:off x="5368680" y="390204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0"/>
          <p:cNvSpPr/>
          <p:nvPr/>
        </p:nvSpPr>
        <p:spPr>
          <a:xfrm flipV="1">
            <a:off x="5369040" y="3675240"/>
            <a:ext cx="0" cy="22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1"/>
          <p:cNvSpPr/>
          <p:nvPr/>
        </p:nvSpPr>
        <p:spPr>
          <a:xfrm>
            <a:off x="1025640" y="3979800"/>
            <a:ext cx="1447560" cy="990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3.  Produc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evelop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rateg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nd proces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2"/>
          <p:cNvSpPr/>
          <p:nvPr/>
        </p:nvSpPr>
        <p:spPr>
          <a:xfrm>
            <a:off x="1712880" y="367524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3"/>
          <p:cNvSpPr/>
          <p:nvPr/>
        </p:nvSpPr>
        <p:spPr>
          <a:xfrm flipV="1">
            <a:off x="1712880" y="4970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4"/>
          <p:cNvSpPr/>
          <p:nvPr/>
        </p:nvSpPr>
        <p:spPr>
          <a:xfrm flipH="1">
            <a:off x="1712880" y="51991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5"/>
          <p:cNvSpPr/>
          <p:nvPr/>
        </p:nvSpPr>
        <p:spPr>
          <a:xfrm>
            <a:off x="4714920" y="4159080"/>
            <a:ext cx="423900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 TSP coach guides the te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through a defined process to devel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its plan and to negotiate that plan with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manageme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1: Establishing Product and Business Go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step in the TSP launch is for senior management and a marketing (or a customer) representative to tell the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what they want the team to develop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when the product is needed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he resources available to the team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he team’s flexibility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why the job is importan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how management will measure succes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SP Launch Outcomes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4000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Business need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Management goal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Product requirement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Trained resource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Process asset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Historical data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TSP Coach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6480" y="1294920"/>
            <a:ext cx="4000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125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169560">
              <a:lnSpc>
                <a:spcPct val="95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Quantitative team goals linked to business needs, management goals, and product requirement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5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Team role manager assignments for self-directed team and objective evaluation of adherence to plan and proces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5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List of key features, requirements, and work product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5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yclic product development strategy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5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Size estimate for each work product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SP Launch Outcomes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4000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Tailored process for each work product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Task plan for each work product based on the tailored proces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Effort estimate for each task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Estimated schedule of available resource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Earned value plan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Milestones for schedule-based product and business objective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Quantitative quality plan to meet product and business objective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6480" y="1294920"/>
            <a:ext cx="4000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Quantitative product and process quality criteria for controlling phase entry and exit for each work product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Risk assessment and mitigation plan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Assigned resource for every business and product objective, work product, task, goal, and risk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Overall plan to end of project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Detailed next-cycle plan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Alternative plan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Approved plan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c4f82"/>
                </a:solidFill>
                <a:latin typeface="Arial"/>
              </a:rPr>
              <a:t>Empowered and committed team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Meeting’s Agend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SP launch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anagement: the business need for the projec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arketing: the desired produc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228600" y="205740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ment: The business need for the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: The desired produ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up Slid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eeting Agen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TSP meeting should have an agenda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describes the meeting’s purpose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lists the attendee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gives the topics and their planned time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names the discussion leader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genda for this meeting is under the tab “Meeting 1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having an agenda, you will have more productive meet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eeting Re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meeting is worth holding, it is worth repo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eting report shou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be brief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list the key decisions and conclusion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record all planned action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ing the actions and decisions will help you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agree on what is to be done and remember to do i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eet your commitment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Creative Commons Licens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2: Establishing Team Self-dir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sets its goals and picks its ro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0">
              <a:lnSpc>
                <a:spcPct val="90000"/>
              </a:lnSpc>
              <a:spcAft>
                <a:spcPts val="561"/>
              </a:spcAft>
              <a:buNone/>
              <a:tabLst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starts with the goals that management stated in the opening mee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reviews and refines these goal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adds team-specific goal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agrees on the team’s goal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0">
              <a:lnSpc>
                <a:spcPct val="90000"/>
              </a:lnSpc>
              <a:spcAft>
                <a:spcPts val="561"/>
              </a:spcAft>
              <a:buNone/>
              <a:tabLst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divides the team management roles so each member has a role responsi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82760" y="4389480"/>
          <a:ext cx="8229600" cy="1554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 Interface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tion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3: Producing the Development Strate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819520" y="1294920"/>
            <a:ext cx="5867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am looks at the project from several perspect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am members define the product that they will build and how to build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onceptual design and size estimate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strategy for meeting the team’s goal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list of all the products that must be produced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process for doing the job right the first time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list of any support activities that must be done by the team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estimates help the team to estimate how much time the project will ta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am describes the strategy and process independent of schedule constra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4"/>
          <p:cNvGrpSpPr/>
          <p:nvPr/>
        </p:nvGrpSpPr>
        <p:grpSpPr>
          <a:xfrm>
            <a:off x="333360" y="1344600"/>
            <a:ext cx="2486160" cy="4522680"/>
            <a:chOff x="333360" y="1344600"/>
            <a:chExt cx="2486160" cy="4522680"/>
          </a:xfrm>
        </p:grpSpPr>
        <p:sp>
          <p:nvSpPr>
            <p:cNvPr id="185" name="Rectangle 5"/>
            <p:cNvSpPr/>
            <p:nvPr/>
          </p:nvSpPr>
          <p:spPr>
            <a:xfrm>
              <a:off x="488880" y="5238720"/>
              <a:ext cx="2125800" cy="62856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6"/>
            <p:cNvSpPr/>
            <p:nvPr/>
          </p:nvSpPr>
          <p:spPr>
            <a:xfrm>
              <a:off x="536760" y="4248360"/>
              <a:ext cx="2098440" cy="78876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7"/>
            <p:cNvSpPr/>
            <p:nvPr/>
          </p:nvSpPr>
          <p:spPr>
            <a:xfrm>
              <a:off x="507960" y="3279960"/>
              <a:ext cx="2098800" cy="79056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8"/>
            <p:cNvSpPr/>
            <p:nvPr/>
          </p:nvSpPr>
          <p:spPr>
            <a:xfrm>
              <a:off x="550800" y="2311560"/>
              <a:ext cx="2097360" cy="79056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9"/>
            <p:cNvSpPr/>
            <p:nvPr/>
          </p:nvSpPr>
          <p:spPr>
            <a:xfrm>
              <a:off x="351000" y="5359320"/>
              <a:ext cx="241596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roject strategy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0"/>
            <p:cNvSpPr/>
            <p:nvPr/>
          </p:nvSpPr>
          <p:spPr>
            <a:xfrm>
              <a:off x="558720" y="4334040"/>
              <a:ext cx="208620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rocess, support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1"/>
            <p:cNvSpPr/>
            <p:nvPr/>
          </p:nvSpPr>
          <p:spPr>
            <a:xfrm>
              <a:off x="333360" y="3362400"/>
              <a:ext cx="247320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List of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roduct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2"/>
            <p:cNvSpPr/>
            <p:nvPr/>
          </p:nvSpPr>
          <p:spPr>
            <a:xfrm>
              <a:off x="1560600" y="4070520"/>
              <a:ext cx="0" cy="164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3"/>
            <p:cNvSpPr/>
            <p:nvPr/>
          </p:nvSpPr>
          <p:spPr>
            <a:xfrm>
              <a:off x="1560600" y="5037120"/>
              <a:ext cx="0" cy="165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4"/>
            <p:cNvSpPr/>
            <p:nvPr/>
          </p:nvSpPr>
          <p:spPr>
            <a:xfrm>
              <a:off x="550800" y="2422440"/>
              <a:ext cx="208908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Development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strategy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5"/>
            <p:cNvSpPr/>
            <p:nvPr/>
          </p:nvSpPr>
          <p:spPr>
            <a:xfrm>
              <a:off x="1573200" y="3102120"/>
              <a:ext cx="0" cy="166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6"/>
            <p:cNvSpPr/>
            <p:nvPr/>
          </p:nvSpPr>
          <p:spPr>
            <a:xfrm>
              <a:off x="523800" y="1344600"/>
              <a:ext cx="2098800" cy="78912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7"/>
            <p:cNvSpPr/>
            <p:nvPr/>
          </p:nvSpPr>
          <p:spPr>
            <a:xfrm>
              <a:off x="345960" y="1428840"/>
              <a:ext cx="2473560" cy="7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Conceptual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desig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18"/>
            <p:cNvSpPr/>
            <p:nvPr/>
          </p:nvSpPr>
          <p:spPr>
            <a:xfrm>
              <a:off x="1573200" y="2133720"/>
              <a:ext cx="0" cy="166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4: Building the Overall Pl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95480" y="1142640"/>
            <a:ext cx="5943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am builds an overall plan for the entir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s are defined in sequence from project start to finish. Th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follow the team’s proces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include all product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are detailed for the next phase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ime needed to do each task is estimated based on size and productivity data or directly based on past exper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0">
              <a:lnSpc>
                <a:spcPct val="95000"/>
              </a:lnSpc>
              <a:spcAft>
                <a:spcPts val="499"/>
              </a:spcAft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s are scheduled based on the team’s available ho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overall plan appears not to satisfy management’s goals, the team may create some alternative propos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4"/>
          <p:cNvGrpSpPr/>
          <p:nvPr/>
        </p:nvGrpSpPr>
        <p:grpSpPr>
          <a:xfrm>
            <a:off x="333360" y="1371600"/>
            <a:ext cx="2486160" cy="4592160"/>
            <a:chOff x="333360" y="1371600"/>
            <a:chExt cx="2486160" cy="4592160"/>
          </a:xfrm>
        </p:grpSpPr>
        <p:sp>
          <p:nvSpPr>
            <p:cNvPr id="202" name="Rectangle 5"/>
            <p:cNvSpPr/>
            <p:nvPr/>
          </p:nvSpPr>
          <p:spPr>
            <a:xfrm>
              <a:off x="351000" y="5321160"/>
              <a:ext cx="2332080" cy="64260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6"/>
            <p:cNvSpPr/>
            <p:nvPr/>
          </p:nvSpPr>
          <p:spPr>
            <a:xfrm>
              <a:off x="381240" y="4340160"/>
              <a:ext cx="2301840" cy="80748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7"/>
            <p:cNvSpPr/>
            <p:nvPr/>
          </p:nvSpPr>
          <p:spPr>
            <a:xfrm>
              <a:off x="381240" y="3350880"/>
              <a:ext cx="2301840" cy="80784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8"/>
            <p:cNvSpPr/>
            <p:nvPr/>
          </p:nvSpPr>
          <p:spPr>
            <a:xfrm>
              <a:off x="381240" y="2357280"/>
              <a:ext cx="2301840" cy="80928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9"/>
            <p:cNvSpPr/>
            <p:nvPr/>
          </p:nvSpPr>
          <p:spPr>
            <a:xfrm>
              <a:off x="373320" y="1371600"/>
              <a:ext cx="2300040" cy="80784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0"/>
            <p:cNvSpPr/>
            <p:nvPr/>
          </p:nvSpPr>
          <p:spPr>
            <a:xfrm>
              <a:off x="401760" y="5497200"/>
              <a:ext cx="222408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Overall pla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1"/>
            <p:cNvSpPr/>
            <p:nvPr/>
          </p:nvSpPr>
          <p:spPr>
            <a:xfrm>
              <a:off x="333360" y="4503600"/>
              <a:ext cx="248616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Available tim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2"/>
            <p:cNvSpPr/>
            <p:nvPr/>
          </p:nvSpPr>
          <p:spPr>
            <a:xfrm>
              <a:off x="406440" y="3479400"/>
              <a:ext cx="223848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stimate resource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3"/>
            <p:cNvSpPr/>
            <p:nvPr/>
          </p:nvSpPr>
          <p:spPr>
            <a:xfrm>
              <a:off x="416160" y="2517480"/>
              <a:ext cx="229716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Define task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4"/>
            <p:cNvSpPr/>
            <p:nvPr/>
          </p:nvSpPr>
          <p:spPr>
            <a:xfrm>
              <a:off x="1533600" y="4159080"/>
              <a:ext cx="0" cy="167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5"/>
            <p:cNvSpPr/>
            <p:nvPr/>
          </p:nvSpPr>
          <p:spPr>
            <a:xfrm>
              <a:off x="1533600" y="3166920"/>
              <a:ext cx="0" cy="171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6"/>
            <p:cNvSpPr/>
            <p:nvPr/>
          </p:nvSpPr>
          <p:spPr>
            <a:xfrm>
              <a:off x="1533600" y="5148000"/>
              <a:ext cx="0" cy="172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7"/>
            <p:cNvSpPr/>
            <p:nvPr/>
          </p:nvSpPr>
          <p:spPr>
            <a:xfrm>
              <a:off x="406440" y="1547640"/>
              <a:ext cx="229896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stimate siz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8"/>
            <p:cNvSpPr/>
            <p:nvPr/>
          </p:nvSpPr>
          <p:spPr>
            <a:xfrm>
              <a:off x="1524240" y="2179440"/>
              <a:ext cx="0" cy="169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5: Developing the Quality Pl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66880" y="1294920"/>
            <a:ext cx="6019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builds a quality plan for the product that shows how the team will achieve its product quality go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checks the quality plan against the goals and the overall plan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ensure that they are consistent 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check for needed adjustment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TSP, software quality during product development is measured by counting defects and normalizing by the appropriate size mea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4"/>
          <p:cNvGrpSpPr/>
          <p:nvPr/>
        </p:nvGrpSpPr>
        <p:grpSpPr>
          <a:xfrm>
            <a:off x="390600" y="1547640"/>
            <a:ext cx="1971720" cy="4014720"/>
            <a:chOff x="390600" y="1547640"/>
            <a:chExt cx="1971720" cy="4014720"/>
          </a:xfrm>
        </p:grpSpPr>
        <p:sp>
          <p:nvSpPr>
            <p:cNvPr id="219" name="Rectangle 5"/>
            <p:cNvSpPr/>
            <p:nvPr/>
          </p:nvSpPr>
          <p:spPr>
            <a:xfrm>
              <a:off x="497160" y="4846680"/>
              <a:ext cx="1752480" cy="71568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6"/>
            <p:cNvSpPr/>
            <p:nvPr/>
          </p:nvSpPr>
          <p:spPr>
            <a:xfrm>
              <a:off x="497160" y="3755880"/>
              <a:ext cx="1728720" cy="90000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7"/>
            <p:cNvSpPr/>
            <p:nvPr/>
          </p:nvSpPr>
          <p:spPr>
            <a:xfrm>
              <a:off x="520920" y="2652480"/>
              <a:ext cx="1728720" cy="90036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8"/>
            <p:cNvSpPr/>
            <p:nvPr/>
          </p:nvSpPr>
          <p:spPr>
            <a:xfrm>
              <a:off x="497160" y="1547640"/>
              <a:ext cx="1728720" cy="90180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9"/>
            <p:cNvSpPr/>
            <p:nvPr/>
          </p:nvSpPr>
          <p:spPr>
            <a:xfrm>
              <a:off x="609840" y="4930560"/>
              <a:ext cx="158256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Quality pla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0"/>
            <p:cNvSpPr/>
            <p:nvPr/>
          </p:nvSpPr>
          <p:spPr>
            <a:xfrm>
              <a:off x="617760" y="1676160"/>
              <a:ext cx="158760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Quality goal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11"/>
            <p:cNvSpPr/>
            <p:nvPr/>
          </p:nvSpPr>
          <p:spPr>
            <a:xfrm>
              <a:off x="457200" y="2781360"/>
              <a:ext cx="188460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Defects injecte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2"/>
            <p:cNvSpPr/>
            <p:nvPr/>
          </p:nvSpPr>
          <p:spPr>
            <a:xfrm>
              <a:off x="390600" y="3917880"/>
              <a:ext cx="197172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Defects remove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3"/>
            <p:cNvSpPr/>
            <p:nvPr/>
          </p:nvSpPr>
          <p:spPr>
            <a:xfrm>
              <a:off x="1382760" y="3552840"/>
              <a:ext cx="0" cy="188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4"/>
            <p:cNvSpPr/>
            <p:nvPr/>
          </p:nvSpPr>
          <p:spPr>
            <a:xfrm>
              <a:off x="1362240" y="2449440"/>
              <a:ext cx="0" cy="189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5"/>
            <p:cNvSpPr/>
            <p:nvPr/>
          </p:nvSpPr>
          <p:spPr>
            <a:xfrm>
              <a:off x="1362240" y="4655880"/>
              <a:ext cx="0" cy="190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6: Building Detailed Next-phase Pla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14240" y="1294920"/>
            <a:ext cx="6172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asks for the next phase are allocated to the develop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he developers build their own work plans.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he team balances the workload so that everyone completes their next-phase tasks at approximately the same time.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he team merges the individual work plans to form a consolidated team plan.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lan is used by the team to guide and track its work during the upcoming project p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4"/>
          <p:cNvGrpSpPr/>
          <p:nvPr/>
        </p:nvGrpSpPr>
        <p:grpSpPr>
          <a:xfrm>
            <a:off x="457200" y="1523880"/>
            <a:ext cx="1903320" cy="4201560"/>
            <a:chOff x="457200" y="1523880"/>
            <a:chExt cx="1903320" cy="4201560"/>
          </a:xfrm>
        </p:grpSpPr>
        <p:sp>
          <p:nvSpPr>
            <p:cNvPr id="233" name="Oval 5"/>
            <p:cNvSpPr/>
            <p:nvPr/>
          </p:nvSpPr>
          <p:spPr>
            <a:xfrm>
              <a:off x="581040" y="1523880"/>
              <a:ext cx="1636560" cy="91908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6"/>
            <p:cNvSpPr/>
            <p:nvPr/>
          </p:nvSpPr>
          <p:spPr>
            <a:xfrm>
              <a:off x="603000" y="2649600"/>
              <a:ext cx="1635120" cy="91908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7"/>
            <p:cNvSpPr/>
            <p:nvPr/>
          </p:nvSpPr>
          <p:spPr>
            <a:xfrm>
              <a:off x="581040" y="3774960"/>
              <a:ext cx="1636560" cy="91908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8"/>
            <p:cNvSpPr/>
            <p:nvPr/>
          </p:nvSpPr>
          <p:spPr>
            <a:xfrm>
              <a:off x="591840" y="4892400"/>
              <a:ext cx="1657440" cy="73188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9"/>
            <p:cNvSpPr/>
            <p:nvPr/>
          </p:nvSpPr>
          <p:spPr>
            <a:xfrm>
              <a:off x="457200" y="4944960"/>
              <a:ext cx="1903320" cy="7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Balance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la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10"/>
            <p:cNvSpPr/>
            <p:nvPr/>
          </p:nvSpPr>
          <p:spPr>
            <a:xfrm>
              <a:off x="693720" y="1689120"/>
              <a:ext cx="150336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Allocate task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1"/>
            <p:cNvSpPr/>
            <p:nvPr/>
          </p:nvSpPr>
          <p:spPr>
            <a:xfrm>
              <a:off x="541080" y="2817720"/>
              <a:ext cx="178596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Individual plan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12"/>
            <p:cNvSpPr/>
            <p:nvPr/>
          </p:nvSpPr>
          <p:spPr>
            <a:xfrm>
              <a:off x="477720" y="3905280"/>
              <a:ext cx="186840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Balance workloa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3"/>
            <p:cNvSpPr/>
            <p:nvPr/>
          </p:nvSpPr>
          <p:spPr>
            <a:xfrm>
              <a:off x="1420560" y="3568680"/>
              <a:ext cx="0" cy="191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4"/>
            <p:cNvSpPr/>
            <p:nvPr/>
          </p:nvSpPr>
          <p:spPr>
            <a:xfrm>
              <a:off x="1396800" y="2442960"/>
              <a:ext cx="0" cy="192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5"/>
            <p:cNvSpPr/>
            <p:nvPr/>
          </p:nvSpPr>
          <p:spPr>
            <a:xfrm>
              <a:off x="1396800" y="4694040"/>
              <a:ext cx="0" cy="19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7: Conducting a Risk Assess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identifies and assesses the risks to its pl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Each risk is assessed for impact and likelihood.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itigation plans are defined for high- and medium-priority risks. 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isk is assigned to a team member for investigation and track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8: Preparing the Management Pres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prepares a presentation of the plan to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team’s plan does not meet management’s goals, the team includes alternative plans that ei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add more resource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deliver  a reduced-functionality version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start small and follow later with a fully functioned version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0">
              <a:lnSpc>
                <a:spcPct val="95000"/>
              </a:lnSpc>
              <a:spcAft>
                <a:spcPts val="561"/>
              </a:spcAft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demarks and Service Mar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are service marks of Carnegie Mellon Univers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MMI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SM 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Team Software Process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SM 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TSP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SM</a:t>
            </a: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Personal Software Process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SM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PSP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SM</a:t>
            </a: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0">
              <a:lnSpc>
                <a:spcPct val="90000"/>
              </a:lnSpc>
              <a:spcAft>
                <a:spcPts val="499"/>
              </a:spcAft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0">
              <a:lnSpc>
                <a:spcPct val="90000"/>
              </a:lnSpc>
              <a:spcAft>
                <a:spcPts val="499"/>
              </a:spcAft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are registered trademarks of Carnegie Mellon Univers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apability Maturity Model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®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MM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®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apability Maturity Model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®</a:t>
            </a:r>
            <a:r>
              <a:rPr b="0" lang="en-US" sz="1800" spc="-1" strike="noStrike" baseline="30000">
                <a:solidFill>
                  <a:srgbClr val="3c4f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Integration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MMI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®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ERT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®</a:t>
            </a: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Software Engineering Institu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SP was developed at the Software Engineering Institute (SEI), a unit of Carnegie Mellon University (CMU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agreement with CMU to use the TSP materials requires that you provide data from TSP projects to the S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I will use that data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improve the TSP 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provide guidelines and benchmark data to TSP users to help them plan and manage TSP project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I will not publicize or attribute your data without your explicit permission, unless you have already published these data in a public set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We are He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urpose of this workshop is to launch your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orksh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624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c4f82"/>
                </a:solidFill>
                <a:latin typeface="Arial"/>
              </a:rPr>
              <a:t>performs essential planning tasks that are part of the project work</a:t>
            </a:r>
            <a:endParaRPr b="0" lang="en-US" sz="20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624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c4f82"/>
                </a:solidFill>
                <a:latin typeface="Arial"/>
              </a:rPr>
              <a:t>is not a course</a:t>
            </a:r>
            <a:endParaRPr b="0" lang="en-US" sz="20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the first step in starting your TSP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urpose for meeting 1 is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624"/>
              </a:spcAft>
              <a:buClr>
                <a:srgbClr val="39536b"/>
              </a:buClr>
              <a:buSzPct val="110000"/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rganizational and project management to describe the project objectives and management goals to the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624"/>
              </a:spcAft>
              <a:buClr>
                <a:srgbClr val="39536b"/>
              </a:buClr>
              <a:buSzPct val="110000"/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am members to understand what the team is supposed to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aunch Workshop Noteboo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launch workshop notebook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he launch schedule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handouts for each launch meeting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handout contents 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eeting agenda and meeting scrip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launch scripts and form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lecture overhead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planning, quality, and management briefing guideline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role, notebook, status, and summary specification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forms, and script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SP Launch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SP launch is organized as a set of meet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TSP meeting has roles, an agenda, and a meeting re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eting roles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Chairperson: arranges and leads the meeting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Facilitator/timekeeper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helps the team follow the agenda and the scrip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racks and notes meeting times on the agenda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Recorder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records all important decisions (what and who) and planned actions (what, who, when)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verifies the actions and decisions with the meeting attendees at the end of the meeting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Meeting’s Agend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SP launch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anagement: the business need for the projec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arketing: the desired produc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228600" y="129528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pose of the TSP Laun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aunch establishes a common team understanding of the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anagement’s goals for the projec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eam and team members’ goal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processes that the team will use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roles that the team members will perform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development work to be done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plan for doing the work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anagement and customer reporting system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ongoing team communication proces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4:55:26Z</dcterms:created>
  <dc:creator>jdm</dc:creator>
  <dc:description/>
  <dc:language>en-US</dc:language>
  <cp:lastModifiedBy>William Nichols</cp:lastModifiedBy>
  <cp:lastPrinted>2006-06-21T20:45:34Z</cp:lastPrinted>
  <dcterms:modified xsi:type="dcterms:W3CDTF">2018-09-05T19:45:45Z</dcterms:modified>
  <cp:revision>14</cp:revision>
  <dc:subject/>
  <dc:title>SEI Presentation (Basic): Preformatted Design and Template Items </dc:title>
</cp:coreProperties>
</file>